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9EF-3155-4EB1-A96F-A8A1224D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587-E499-44B4-8E06-1455747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ABE25-B68E-46B5-8985-AD6B277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2FD2D-B137-45A5-B167-F2744D5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5CAE7-DE85-411A-ABAE-40B46341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3FFF5-2AF4-418F-884D-D3E68E7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989F5-8156-40C8-8402-4F9D860D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8D38C-189A-4E5F-8C87-2CAFB1E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9997F-706D-404A-9B46-418696C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FC067-F5B3-43E8-8312-49FAEE70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A5B95-7DA7-4435-896C-EA3E2AD4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2162D-69E5-4C8E-94B0-68118F1F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17D-B751-488F-BD5D-8022C502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C9F34-3BAA-4372-9126-7FB9313F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39830-8546-4C5B-B67F-93A3D08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DDBA6-F3C3-4C69-B570-378FA301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C9C07-C4FC-4E3C-AB61-4F7E6FD2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677DA-C9B7-4CFE-A18E-D4D44C48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23C4-5F4F-4881-A224-94EA934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8B8F6-E47C-4A58-8544-FE8F698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1DBB-C66A-4BEA-8E27-6F8FA62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35A96-40D9-4275-B314-8247804D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AC0C6-DEA8-4F05-86E2-A822C146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DA6-A14C-4E94-AAA8-B839C0B2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0E5C0-E1A3-480D-96DF-0B56048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CC73-ED4B-4805-9337-A153B8CE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AEE38-D052-427C-A3F0-5AA87E53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20519-4D2B-4F1E-AD4D-F6BF5CF8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472DF-7C49-4582-B417-7416E1A1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25EC1-C1A1-448B-BBC8-72154651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2C7C2-A7E9-4D98-9125-41AB67A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5EE65-F930-4C09-9E02-7641B165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DB372-62D9-4FEC-B07F-BF97062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EC43-4DE6-4386-B902-7705DD5F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3CA-3684-41F9-B114-9B72DF68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8C82D-172A-434B-9D24-7097ACD4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C2030-3D64-423F-97FF-25B93423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8E39-5B52-4DA7-8ED9-05FCF0B3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29356-B53C-460D-9B46-BDBBF7B1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F2F4F-4DF7-435B-95B8-5FC9005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68E09-1AED-49F5-8957-3AED279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71D09-8ED9-4DCC-A3BD-83CC3EDD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ACF19-AC96-4048-9B17-D73556BF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89E6A-C222-4246-862C-774033DD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45B3F-1778-4AA2-BF49-371376E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6A4D-81D4-431E-8BA9-FF94C142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C1355-7173-4869-A759-603D78E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90B1F-718A-42C0-B67D-7F291F2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A99E6-F1E9-44FC-8644-509ED2B3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3E87E-B6E9-4321-8480-5A2CA949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F8644-023F-4BDF-9C03-668E98E2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0488F-F2C4-4998-9F4B-937A2958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BFA16-85F2-4353-92CB-745C8C8B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6B249-5B7E-49E2-B56D-2ADFD495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7D5DD-76B6-401F-AB5C-192A825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FC079-6640-4C4A-9E29-E708440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620-C6F8-425B-897B-F51DEF9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7537E-4FE3-403E-B8E7-52CDFAD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D64E9-1207-49FD-9A0E-2896D04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1C739-C9D3-441A-A8F3-48825E1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4C4A1-3855-41C1-9448-808951E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E17EA-A3FF-4571-9832-E8FC150C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CD8DD-5837-4905-93BA-8E8BE7C0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46FE5-72E2-41C2-B40A-19D8DFA3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1F961-F182-45EB-AE89-2F3EE045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25CB0-0671-48FA-96CE-5D6A0707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E557B-D818-4987-A314-734E043E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8944-6810-4F8C-9188-E11DBEC8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0DA05-9B8E-4C25-B613-EDC6F2B1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5B3C7-8DA9-48E8-A272-D370B354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31A88-36C2-43B4-B098-2F2CCF32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335B1-C6D3-4366-A76F-25037C8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0113E-E5BC-463E-9D12-02A2EFE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7E95B-D472-4D82-9FF7-5D756A1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859D8-7D65-494F-8AE3-13E1540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920C7-6FEE-4EA3-BB22-8E0253C9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A97A7-F61C-4A69-AC30-B70FB82C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5708-754B-43CD-886D-297F9491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95AC-755F-4652-9C81-E2758554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5E18-073B-4D10-87FA-C69DAE1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5B2-052A-4B9B-8522-C7795B9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4B76-D966-4F5F-87C6-AC693FC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7774-C11B-4D09-A4BF-0A329C4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39F1-3CF1-4A67-A3EE-3F18B689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49E9-A307-4697-AF67-A43A7309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E3B1-2604-4369-B1BD-8607DFDF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D750-C35E-49F5-A73D-69112059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6EDC-86D7-40BC-8AF6-C8B6FD5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FB1C-069B-433A-ABED-0A3706DF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FE78-5B30-4830-BD01-474D34A3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35B7-065D-4801-AA32-7AFDCD7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D1A-2327-4F50-AE76-98DE9BE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E14C-06CA-4D1B-B02F-C92DB66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79B1-7E86-426C-A303-8052837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F64F-F48E-4531-A843-43DD28F8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6D5E-CE6C-4B26-99F6-04EFCE8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A8D1-61F6-414B-9DF2-1551545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A5E8-7AC0-4385-9D55-3D855EE5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45D3-6AB6-4685-ABB7-EBA8C145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CC8E-E23F-4CC7-A4B8-15FFEDE3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BDFE-872B-425E-8342-FD1D5846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E8F3-387E-43AF-87AC-359C64D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406-51EF-495F-A8ED-C674E984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D404-A3C1-4AAC-893A-20D86FDB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B1B1-F068-45C9-BCEB-10EB16E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0672-EA36-4931-A7CE-9D2B32C5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D7E2-326F-4B4B-80F5-52C451C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419E-B58A-40BA-88E1-726BDC2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8A3D7-6FA8-4204-B1BD-5D2E3F4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7922-3123-47A9-9D25-23F5468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FD64-94A3-4A23-B5F4-DB47B7C7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8C7B-B28D-4B45-8A36-8008987B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5DEF-BA96-4692-BB4B-B89224AD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764-D742-4236-86B2-E8B98E9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D38FB-B166-4BD4-8E32-0D1C7A9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1792-6006-42E7-A583-7C63E783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1B4F-058A-425F-B078-D2790C9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202F-5C6A-40FD-8ED3-F52E557A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1709-6ABB-4F11-9DD3-4CED52AF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AFD6-1E14-48EE-AA86-5AB9195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2F80-7A6A-4C4C-90F0-F7284DF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10F9-9DE7-4666-9603-6312551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0E00-3F2C-4FEC-8494-8EFB9AC3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C5F9-9458-483C-A33E-FDD7CB71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5F8-07C8-44B2-813E-E06FDD8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4CE12-483C-44A4-B069-87D3D9F4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6D56E-505F-47D5-894C-35FB8FE2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2BC83-FEAE-4758-BA33-FEB8A952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05E48-FC6C-406A-AA22-0661D231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7EAF9-7360-4C70-9044-9D64347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1C064-694A-45F7-80AA-2EEADAF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9EB19-DE85-41BF-9072-447005D0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46A8E-7249-452C-B3A4-3F54BA6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8578B-7E6C-463D-ABE0-3311BC8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ACEE3-6ACB-4925-871B-297E2FFC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B50-95C7-4004-B028-B08896A1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755C9-528D-4EB7-B8D0-50E52CC5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6BA6B-4C7B-4750-AD34-F8668995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2B076-8994-473B-97AD-B332F540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4F41-18A5-4803-9B47-AFA2B25A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12AD6-CC72-4BE0-85D2-9E960609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733A-4BE3-4F51-A4DA-A260883E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468C-AB39-4169-8412-D2188B54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6623-0D6D-4811-93D9-ACEDC142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F089-51EA-4125-87DF-A3768935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E66D-BFB3-4E99-A83E-F03A06F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B49-11DE-48DD-962D-FCFC85B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ED57-C1E9-4BCD-B964-E2709A6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1244-CC02-4866-9D77-65588B9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4F09-DE8A-4372-8A7F-61028CAE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46B8B-4E34-47DE-A2A3-EEA378E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0BB1C-B43D-4558-8CBA-54C69FA8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C373-CC29-45E8-B991-CC827B16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4A7B7-9D71-4C9E-8828-3C314DC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5717-2C96-409A-8917-A842A0E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0C05F-10C5-4009-8844-FF1C5CE2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3DDB5-9FEF-4B99-9920-843AB1D4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CB1-43A6-40F3-BDED-2164104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B55C-5832-4B66-8A6B-82D6E43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CF247-560B-409B-8182-8E08325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D3ECD-5A60-4FC3-B933-04AC4480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5F0F0-7285-4E45-AF49-8852B68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40DB-FC31-48FB-A3E9-8A11671E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FFBED-0033-4FE4-959A-63AA0747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3FA9F-597C-40EB-B195-1590A483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23398-C5BB-4AD5-AEBD-F66DA1E0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3E5FC-89DD-423E-A1C0-0FD84012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0B002-4E5C-46A6-BCAF-D4C108A2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035-15E5-4409-87A2-93B8880204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55D-DF27-439D-B654-DDED63C213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F752-751A-4114-907C-95222A3935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4BEB-3FE8-4912-944D-48984784A8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5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D58B-6597-4029-86EC-9F87878112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0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1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1776-6DB0-4566-8242-49B4E50E02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42A-175D-49B7-87C0-05DD8A58DC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3C5-ECEF-4C66-8ABC-FF0FB15CC53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3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3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5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BD78-43F2-4CA3-BA08-065B539E035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9851-0D64-40FB-9C28-7EFAF53CD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038-A26C-4CC4-8578-3B1725FCB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3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A52-E4F8-4175-ABD3-0DAAE41E8A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67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D83C-071D-4DC3-BA64-C30CBDA4CA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2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A29-C8AC-40F4-B18B-AF9F77A33A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Osca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vi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eans I learn by reading, watching ,and viewing information in pr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concrete and abstract sequent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I am logical and order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5000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emispheres of my br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 found out that my left hemisphere of my brain is a rotational and a sequential think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right brain is a creative and abstract think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learned facts and street-wi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that I am knowledgeable and can work things to my advant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5000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y its importa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fun and important to know your learning sty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can I apply i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use it in and out of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also use it when I am stuck or I’m conf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2:56Z</dcterms:created>
  <dc:creator>student</dc:creator>
  <dc:description/>
  <dc:language>en-US</dc:language>
  <cp:lastModifiedBy>student</cp:lastModifiedBy>
  <dcterms:modified xsi:type="dcterms:W3CDTF">2010-11-23T16:13:10Z</dcterms:modified>
  <cp:revision>6</cp:revision>
  <dc:subject/>
  <dc:title>My personal learning profile</dc:title>
</cp:coreProperties>
</file>